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4436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t your table solve the problem.  Which tables chose A?  B?  Would one group share their thinking for A.  Would one group share your response for 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t your table solve the problem.  Which tables chose A?  B?  Would one group share their thinking for A.  Would one group share your response for 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DD49-C6EE-4EB5-AC66-014378616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1AB0-11A9-4959-A870-FBFFCB028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11E5-D073-4C1C-B8E7-4A30969B6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EF58-1674-4175-AB71-DC1FDC2077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B116-56DB-4F6E-B9FB-9528FCBB4B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1BF7-EC59-4216-B568-F9E73A8A6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21F2-44AA-4F20-AEC5-1A301FF26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5AD4-9C92-45A3-A05F-6DE0544FC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9F2F-1DF7-4512-B682-CB0B42943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D85D-DAF8-4AC5-8FB5-3C8BA3378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0884-D4F4-4BF4-9ADA-F28707885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A5E7-FDF7-4FFE-8C12-60D5D6F19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E768-A90D-49FA-B971-6A5EDC75E6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: </a:t>
            </a:r>
            <a:br>
              <a:rPr sz="3200"/>
            </a:br>
            <a:r>
              <a:rPr b="0" lang="en-US" sz="3200" spc="-1" strike="noStrike">
                <a:solidFill>
                  <a:srgbClr val="2b5ca9"/>
                </a:solidFill>
                <a:latin typeface="Arial"/>
              </a:rPr>
              <a:t>Responding to Students in the Moment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83E7-397C-4B82-ABA0-255E8AF66D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E:\Beach Images\Beach &amp; Water (K - P)\Paddleboat 2.wmf"/>
          <p:cNvPicPr/>
          <p:nvPr/>
        </p:nvPicPr>
        <p:blipFill>
          <a:blip r:embed="rId1"/>
          <a:stretch/>
        </p:blipFill>
        <p:spPr>
          <a:xfrm>
            <a:off x="2286000" y="2209680"/>
            <a:ext cx="4672080" cy="325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…Student S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F6BB-A293-41BB-9A9D-A16A3316B4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 #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3063-DD00-439E-A1B7-7F33AE35C7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380880" y="43434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7"/>
          <p:cNvSpPr/>
          <p:nvPr/>
        </p:nvSpPr>
        <p:spPr>
          <a:xfrm>
            <a:off x="1447920" y="251460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3, 26, 29, 32, 35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 #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70C6-81B7-4400-A4A6-3E26429BEA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304920" y="4572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7"/>
          <p:cNvSpPr/>
          <p:nvPr/>
        </p:nvSpPr>
        <p:spPr>
          <a:xfrm>
            <a:off x="1600200" y="25909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, 22, 25, 28, 31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5FA1-36BA-4021-BE99-D9CF58C0C1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30"/>
          <p:cNvGrpSpPr/>
          <p:nvPr/>
        </p:nvGrpSpPr>
        <p:grpSpPr>
          <a:xfrm>
            <a:off x="1600200" y="1905120"/>
            <a:ext cx="5181480" cy="914400"/>
            <a:chOff x="1600200" y="1905120"/>
            <a:chExt cx="5181480" cy="914400"/>
          </a:xfrm>
        </p:grpSpPr>
        <p:sp>
          <p:nvSpPr>
            <p:cNvPr id="119" name="Oval 4"/>
            <p:cNvSpPr/>
            <p:nvPr/>
          </p:nvSpPr>
          <p:spPr>
            <a:xfrm>
              <a:off x="1905120" y="1905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2286000" y="1905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2666880" y="190512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3124080" y="190512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3505320" y="1905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3886200" y="1905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4419720" y="1905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4800600" y="1905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5181480" y="190512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160020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1981080" y="2438280"/>
              <a:ext cx="3812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236232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2895480" y="2438280"/>
              <a:ext cx="3812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27672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365760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4267080" y="2438280"/>
              <a:ext cx="3812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464832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502920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5638680" y="2438280"/>
              <a:ext cx="3812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601992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640080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5867280" y="190512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Box 26"/>
          <p:cNvSpPr/>
          <p:nvPr/>
        </p:nvSpPr>
        <p:spPr>
          <a:xfrm>
            <a:off x="1600200" y="32004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22 ma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put them into 7 groups of 3 and there is one more left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228600" y="4800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 #4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B17F-12B0-43F2-AE4A-451203B856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8"/>
          <p:cNvGrpSpPr/>
          <p:nvPr/>
        </p:nvGrpSpPr>
        <p:grpSpPr>
          <a:xfrm>
            <a:off x="1828800" y="2057400"/>
            <a:ext cx="4952520" cy="1395720"/>
            <a:chOff x="1828800" y="2057400"/>
            <a:chExt cx="4952520" cy="1395720"/>
          </a:xfrm>
        </p:grpSpPr>
        <p:sp>
          <p:nvSpPr>
            <p:cNvPr id="148" name="Straight Connector 29"/>
            <p:cNvSpPr/>
            <p:nvPr/>
          </p:nvSpPr>
          <p:spPr>
            <a:xfrm>
              <a:off x="1996560" y="2908440"/>
              <a:ext cx="47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Curved Down Arrow 30"/>
            <p:cNvSpPr/>
            <p:nvPr/>
          </p:nvSpPr>
          <p:spPr>
            <a:xfrm>
              <a:off x="1996560" y="2567880"/>
              <a:ext cx="587520" cy="340560"/>
            </a:xfrm>
            <a:custGeom>
              <a:avLst/>
              <a:gdLst>
                <a:gd name="textAreaLeft" fmla="*/ 115200 w 587520"/>
                <a:gd name="textAreaRight" fmla="*/ 430200 w 58752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1" y="0"/>
                  </a:lnTo>
                  <a:arcTo wR="8486" hR="21600" stAng="-5400000" swAng="3401198"/>
                  <a:lnTo>
                    <a:pt x="21331" y="16200"/>
                  </a:lnTo>
                  <a:lnTo>
                    <a:pt x="18515" y="21600"/>
                  </a:lnTo>
                  <a:lnTo>
                    <a:pt x="15160" y="16200"/>
                  </a:lnTo>
                  <a:lnTo>
                    <a:pt x="16703" y="16200"/>
                  </a:lnTo>
                  <a:arcTo wR="8486" hR="21600" stAng="-1998802" swAng="-3151980"/>
                  <a:lnTo>
                    <a:pt x="10029" y="360"/>
                  </a:lnTo>
                  <a:arcTo wR="8486" hR="21600" stAng="-5649218" swAng="-5150782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218"/>
                  <a:lnTo>
                    <a:pt x="10029" y="360"/>
                  </a:lnTo>
                  <a:arcTo wR="8486" hR="21600" stAng="-5649218" swAng="-5150782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Curved Down Arrow 31"/>
            <p:cNvSpPr/>
            <p:nvPr/>
          </p:nvSpPr>
          <p:spPr>
            <a:xfrm>
              <a:off x="2584080" y="2567880"/>
              <a:ext cx="587160" cy="340560"/>
            </a:xfrm>
            <a:custGeom>
              <a:avLst/>
              <a:gdLst>
                <a:gd name="textAreaLeft" fmla="*/ 115200 w 587160"/>
                <a:gd name="textAreaRight" fmla="*/ 429840 w 58716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1" y="0"/>
                  </a:lnTo>
                  <a:arcTo wR="8486" hR="21600" stAng="-5400000" swAng="3401198"/>
                  <a:lnTo>
                    <a:pt x="21331" y="16200"/>
                  </a:lnTo>
                  <a:lnTo>
                    <a:pt x="18515" y="21600"/>
                  </a:lnTo>
                  <a:lnTo>
                    <a:pt x="15160" y="16200"/>
                  </a:lnTo>
                  <a:lnTo>
                    <a:pt x="16703" y="16200"/>
                  </a:lnTo>
                  <a:arcTo wR="8486" hR="21600" stAng="-1998802" swAng="-3151980"/>
                  <a:lnTo>
                    <a:pt x="10029" y="360"/>
                  </a:lnTo>
                  <a:arcTo wR="8486" hR="21600" stAng="-5649218" swAng="-5150782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218"/>
                  <a:lnTo>
                    <a:pt x="10029" y="360"/>
                  </a:lnTo>
                  <a:arcTo wR="8486" hR="21600" stAng="-5649218" swAng="-5150782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Curved Down Arrow 32"/>
            <p:cNvSpPr/>
            <p:nvPr/>
          </p:nvSpPr>
          <p:spPr>
            <a:xfrm>
              <a:off x="3171600" y="2567880"/>
              <a:ext cx="587520" cy="340560"/>
            </a:xfrm>
            <a:custGeom>
              <a:avLst/>
              <a:gdLst>
                <a:gd name="textAreaLeft" fmla="*/ 115200 w 587520"/>
                <a:gd name="textAreaRight" fmla="*/ 430200 w 58752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1" y="0"/>
                  </a:lnTo>
                  <a:arcTo wR="8486" hR="21600" stAng="-5400000" swAng="3401198"/>
                  <a:lnTo>
                    <a:pt x="21331" y="16200"/>
                  </a:lnTo>
                  <a:lnTo>
                    <a:pt x="18515" y="21600"/>
                  </a:lnTo>
                  <a:lnTo>
                    <a:pt x="15160" y="16200"/>
                  </a:lnTo>
                  <a:lnTo>
                    <a:pt x="16703" y="16200"/>
                  </a:lnTo>
                  <a:arcTo wR="8486" hR="21600" stAng="-1998802" swAng="-3151980"/>
                  <a:lnTo>
                    <a:pt x="10029" y="360"/>
                  </a:lnTo>
                  <a:arcTo wR="8486" hR="21600" stAng="-5649218" swAng="-5150782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218"/>
                  <a:lnTo>
                    <a:pt x="10029" y="360"/>
                  </a:lnTo>
                  <a:arcTo wR="8486" hR="21600" stAng="-5649218" swAng="-5150782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Curved Down Arrow 33"/>
            <p:cNvSpPr/>
            <p:nvPr/>
          </p:nvSpPr>
          <p:spPr>
            <a:xfrm>
              <a:off x="3759480" y="2567880"/>
              <a:ext cx="587520" cy="340560"/>
            </a:xfrm>
            <a:custGeom>
              <a:avLst/>
              <a:gdLst>
                <a:gd name="textAreaLeft" fmla="*/ 115200 w 587520"/>
                <a:gd name="textAreaRight" fmla="*/ 430200 w 58752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1" y="0"/>
                  </a:lnTo>
                  <a:arcTo wR="8486" hR="21600" stAng="-5400000" swAng="3401198"/>
                  <a:lnTo>
                    <a:pt x="21331" y="16200"/>
                  </a:lnTo>
                  <a:lnTo>
                    <a:pt x="18515" y="21600"/>
                  </a:lnTo>
                  <a:lnTo>
                    <a:pt x="15160" y="16200"/>
                  </a:lnTo>
                  <a:lnTo>
                    <a:pt x="16703" y="16200"/>
                  </a:lnTo>
                  <a:arcTo wR="8486" hR="21600" stAng="-1998802" swAng="-3151980"/>
                  <a:lnTo>
                    <a:pt x="10029" y="360"/>
                  </a:lnTo>
                  <a:arcTo wR="8486" hR="21600" stAng="-5649218" swAng="-5150782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218"/>
                  <a:lnTo>
                    <a:pt x="10029" y="360"/>
                  </a:lnTo>
                  <a:arcTo wR="8486" hR="21600" stAng="-5649218" swAng="-5150782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Curved Down Arrow 34"/>
            <p:cNvSpPr/>
            <p:nvPr/>
          </p:nvSpPr>
          <p:spPr>
            <a:xfrm>
              <a:off x="4347000" y="2567880"/>
              <a:ext cx="587160" cy="340560"/>
            </a:xfrm>
            <a:custGeom>
              <a:avLst/>
              <a:gdLst>
                <a:gd name="textAreaLeft" fmla="*/ 115200 w 587160"/>
                <a:gd name="textAreaRight" fmla="*/ 429840 w 58716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1" y="0"/>
                  </a:lnTo>
                  <a:arcTo wR="8486" hR="21600" stAng="-5400000" swAng="3401198"/>
                  <a:lnTo>
                    <a:pt x="21331" y="16200"/>
                  </a:lnTo>
                  <a:lnTo>
                    <a:pt x="18515" y="21600"/>
                  </a:lnTo>
                  <a:lnTo>
                    <a:pt x="15160" y="16200"/>
                  </a:lnTo>
                  <a:lnTo>
                    <a:pt x="16703" y="16200"/>
                  </a:lnTo>
                  <a:arcTo wR="8486" hR="21600" stAng="-1998802" swAng="-3151980"/>
                  <a:lnTo>
                    <a:pt x="10029" y="360"/>
                  </a:lnTo>
                  <a:arcTo wR="8486" hR="21600" stAng="-5649218" swAng="-5150782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218"/>
                  <a:lnTo>
                    <a:pt x="10029" y="360"/>
                  </a:lnTo>
                  <a:arcTo wR="8486" hR="21600" stAng="-5649218" swAng="-5150782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Curved Down Arrow 35"/>
            <p:cNvSpPr/>
            <p:nvPr/>
          </p:nvSpPr>
          <p:spPr>
            <a:xfrm>
              <a:off x="4934520" y="2567880"/>
              <a:ext cx="587520" cy="340560"/>
            </a:xfrm>
            <a:custGeom>
              <a:avLst/>
              <a:gdLst>
                <a:gd name="textAreaLeft" fmla="*/ 115200 w 587520"/>
                <a:gd name="textAreaRight" fmla="*/ 430200 w 58752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1" y="0"/>
                  </a:lnTo>
                  <a:arcTo wR="8486" hR="21600" stAng="-5400000" swAng="3401198"/>
                  <a:lnTo>
                    <a:pt x="21331" y="16200"/>
                  </a:lnTo>
                  <a:lnTo>
                    <a:pt x="18515" y="21600"/>
                  </a:lnTo>
                  <a:lnTo>
                    <a:pt x="15160" y="16200"/>
                  </a:lnTo>
                  <a:lnTo>
                    <a:pt x="16703" y="16200"/>
                  </a:lnTo>
                  <a:arcTo wR="8486" hR="21600" stAng="-1998802" swAng="-3151980"/>
                  <a:lnTo>
                    <a:pt x="10029" y="360"/>
                  </a:lnTo>
                  <a:arcTo wR="8486" hR="21600" stAng="-5649218" swAng="-5150782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218"/>
                  <a:lnTo>
                    <a:pt x="10029" y="360"/>
                  </a:lnTo>
                  <a:arcTo wR="8486" hR="21600" stAng="-5649218" swAng="-5150782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Curved Down Arrow 36"/>
            <p:cNvSpPr/>
            <p:nvPr/>
          </p:nvSpPr>
          <p:spPr>
            <a:xfrm>
              <a:off x="5522400" y="2567880"/>
              <a:ext cx="335880" cy="340560"/>
            </a:xfrm>
            <a:custGeom>
              <a:avLst/>
              <a:gdLst>
                <a:gd name="textAreaLeft" fmla="*/ 52200 w 335880"/>
                <a:gd name="textAreaRight" fmla="*/ 241560 w 33588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750" hR="21600" stAng="10800000" swAng="5400000"/>
                  <a:lnTo>
                    <a:pt x="12150" y="0"/>
                  </a:lnTo>
                  <a:arcTo wR="6750" hR="21600" stAng="-5400000" swAng="3026114"/>
                  <a:lnTo>
                    <a:pt x="21386" y="16200"/>
                  </a:lnTo>
                  <a:lnTo>
                    <a:pt x="16200" y="21600"/>
                  </a:lnTo>
                  <a:lnTo>
                    <a:pt x="10586" y="16200"/>
                  </a:lnTo>
                  <a:lnTo>
                    <a:pt x="13286" y="16200"/>
                  </a:lnTo>
                  <a:arcTo wR="6750" hR="21600" stAng="-2373886" swAng="-2560128"/>
                  <a:lnTo>
                    <a:pt x="9450" y="1803"/>
                  </a:lnTo>
                  <a:arcTo wR="6750" hR="21600" stAng="-5865986" swAng="-4934014"/>
                  <a:close/>
                </a:path>
                <a:path fill="darkenLess" w="21600" h="21600">
                  <a:moveTo>
                    <a:pt x="0" y="21600"/>
                  </a:moveTo>
                  <a:arcTo wR="6750" hR="21600" stAng="10800000" swAng="5400000"/>
                  <a:lnTo>
                    <a:pt x="6750" y="0"/>
                  </a:lnTo>
                  <a:arcTo wR="6750" hR="21600" stAng="-5400000" swAng="465986"/>
                  <a:lnTo>
                    <a:pt x="9450" y="1803"/>
                  </a:lnTo>
                  <a:arcTo wR="6750" hR="21600" stAng="-5865986" swAng="-4934014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38"/>
            <p:cNvSpPr/>
            <p:nvPr/>
          </p:nvSpPr>
          <p:spPr>
            <a:xfrm>
              <a:off x="1828800" y="2993400"/>
              <a:ext cx="3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39"/>
            <p:cNvSpPr/>
            <p:nvPr/>
          </p:nvSpPr>
          <p:spPr>
            <a:xfrm>
              <a:off x="2415960" y="2993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40"/>
            <p:cNvSpPr/>
            <p:nvPr/>
          </p:nvSpPr>
          <p:spPr>
            <a:xfrm>
              <a:off x="3003840" y="2993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41"/>
            <p:cNvSpPr/>
            <p:nvPr/>
          </p:nvSpPr>
          <p:spPr>
            <a:xfrm>
              <a:off x="3591720" y="2993400"/>
              <a:ext cx="3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2"/>
            <p:cNvSpPr/>
            <p:nvPr/>
          </p:nvSpPr>
          <p:spPr>
            <a:xfrm>
              <a:off x="4178880" y="2993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43"/>
            <p:cNvSpPr/>
            <p:nvPr/>
          </p:nvSpPr>
          <p:spPr>
            <a:xfrm>
              <a:off x="4766760" y="2993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44"/>
            <p:cNvSpPr/>
            <p:nvPr/>
          </p:nvSpPr>
          <p:spPr>
            <a:xfrm>
              <a:off x="5270400" y="2993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46"/>
            <p:cNvSpPr/>
            <p:nvPr/>
          </p:nvSpPr>
          <p:spPr>
            <a:xfrm>
              <a:off x="2415960" y="2057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47"/>
            <p:cNvSpPr/>
            <p:nvPr/>
          </p:nvSpPr>
          <p:spPr>
            <a:xfrm>
              <a:off x="3003840" y="2057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48"/>
            <p:cNvSpPr/>
            <p:nvPr/>
          </p:nvSpPr>
          <p:spPr>
            <a:xfrm>
              <a:off x="3423240" y="20574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49"/>
            <p:cNvSpPr/>
            <p:nvPr/>
          </p:nvSpPr>
          <p:spPr>
            <a:xfrm>
              <a:off x="4011120" y="20574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50"/>
            <p:cNvSpPr/>
            <p:nvPr/>
          </p:nvSpPr>
          <p:spPr>
            <a:xfrm>
              <a:off x="4599000" y="2057400"/>
              <a:ext cx="5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51"/>
            <p:cNvSpPr/>
            <p:nvPr/>
          </p:nvSpPr>
          <p:spPr>
            <a:xfrm>
              <a:off x="5186160" y="20574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52"/>
            <p:cNvSpPr/>
            <p:nvPr/>
          </p:nvSpPr>
          <p:spPr>
            <a:xfrm>
              <a:off x="5606280" y="2993400"/>
              <a:ext cx="3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53"/>
            <p:cNvSpPr/>
            <p:nvPr/>
          </p:nvSpPr>
          <p:spPr>
            <a:xfrm>
              <a:off x="5606280" y="2057400"/>
              <a:ext cx="5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54"/>
            <p:cNvSpPr/>
            <p:nvPr/>
          </p:nvSpPr>
          <p:spPr>
            <a:xfrm>
              <a:off x="2080440" y="2482560"/>
              <a:ext cx="3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55"/>
            <p:cNvSpPr/>
            <p:nvPr/>
          </p:nvSpPr>
          <p:spPr>
            <a:xfrm>
              <a:off x="2667960" y="248256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56"/>
            <p:cNvSpPr/>
            <p:nvPr/>
          </p:nvSpPr>
          <p:spPr>
            <a:xfrm>
              <a:off x="3255480" y="248256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57"/>
            <p:cNvSpPr/>
            <p:nvPr/>
          </p:nvSpPr>
          <p:spPr>
            <a:xfrm>
              <a:off x="3843360" y="2482560"/>
              <a:ext cx="3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58"/>
            <p:cNvSpPr/>
            <p:nvPr/>
          </p:nvSpPr>
          <p:spPr>
            <a:xfrm>
              <a:off x="4430880" y="248256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59"/>
            <p:cNvSpPr/>
            <p:nvPr/>
          </p:nvSpPr>
          <p:spPr>
            <a:xfrm>
              <a:off x="5018400" y="248256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60"/>
            <p:cNvSpPr/>
            <p:nvPr/>
          </p:nvSpPr>
          <p:spPr>
            <a:xfrm>
              <a:off x="5522400" y="248256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 #5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1EDB-998B-456D-A733-E1D1046185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7"/>
          <p:cNvSpPr/>
          <p:nvPr/>
        </p:nvSpPr>
        <p:spPr>
          <a:xfrm>
            <a:off x="533520" y="4343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7"/>
          <p:cNvSpPr/>
          <p:nvPr/>
        </p:nvSpPr>
        <p:spPr>
          <a:xfrm>
            <a:off x="1752480" y="18288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x 3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x 3 =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+ 3 = 21 + 1 =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 #6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BB5B-5DD4-4340-B091-DA7D7D0DA0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7"/>
          <p:cNvSpPr/>
          <p:nvPr/>
        </p:nvSpPr>
        <p:spPr>
          <a:xfrm>
            <a:off x="1752480" y="2590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7 = 21 + 1 = 22 + 3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3962520" y="2590920"/>
            <a:ext cx="4572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5181480" y="2590920"/>
            <a:ext cx="4572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the differences between multiplicative and additive thinking (within proportional reas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reflect on the ways in which we respond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7816-7E7B-4BF5-B8F0-3214F0A500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CEF1-DC2B-4B6C-B3CD-C460BA6870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93EC-40B1-4F23-B26A-4E689FE2C9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time is i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s were cut off of the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own, determine what time the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h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69FF-BA48-458E-AECD-679CA37DDF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B842-2132-495E-8351-B3FB9874B0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sp>
        <p:nvSpPr>
          <p:cNvPr id="55" name="Cloud Callout 8"/>
          <p:cNvSpPr/>
          <p:nvPr/>
        </p:nvSpPr>
        <p:spPr>
          <a:xfrm>
            <a:off x="3581280" y="3733920"/>
            <a:ext cx="3886200" cy="1371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quare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there proportional reasoning involved in the clock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4AB3-40EF-4BD3-919E-9104A88782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Life Preserve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E2C9-D5A8-4EAD-8002-189D68299F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E:\Beach Images\Beach &amp; Water (C - G)\Float Toy.wmf"/>
          <p:cNvPicPr/>
          <p:nvPr/>
        </p:nvPicPr>
        <p:blipFill>
          <a:blip r:embed="rId1"/>
          <a:stretch/>
        </p:blipFill>
        <p:spPr>
          <a:xfrm>
            <a:off x="13716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E:\Beach Images\Beach &amp; Water (C - G)\Float Toy.wmf"/>
          <p:cNvPicPr/>
          <p:nvPr/>
        </p:nvPicPr>
        <p:blipFill>
          <a:blip r:embed="rId2"/>
          <a:stretch/>
        </p:blipFill>
        <p:spPr>
          <a:xfrm>
            <a:off x="838080" y="30481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E:\Beach Images\Beach &amp; Water (C - G)\Float Toy.wmf"/>
          <p:cNvPicPr/>
          <p:nvPr/>
        </p:nvPicPr>
        <p:blipFill>
          <a:blip r:embed="rId3"/>
          <a:stretch/>
        </p:blipFill>
        <p:spPr>
          <a:xfrm>
            <a:off x="2743200" y="1523880"/>
            <a:ext cx="1371600" cy="78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E:\Beach Images\Beach &amp; Water (C - G)\Float Toy.wmf"/>
          <p:cNvPicPr/>
          <p:nvPr/>
        </p:nvPicPr>
        <p:blipFill>
          <a:blip r:embed="rId4"/>
          <a:stretch/>
        </p:blipFill>
        <p:spPr>
          <a:xfrm>
            <a:off x="22860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E:\Beach Images\Beach &amp; Water (C - G)\Float Toy.wmf"/>
          <p:cNvPicPr/>
          <p:nvPr/>
        </p:nvPicPr>
        <p:blipFill>
          <a:blip r:embed="rId5"/>
          <a:stretch/>
        </p:blipFill>
        <p:spPr>
          <a:xfrm>
            <a:off x="647712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Beach Images\Beach &amp; Water (C - G)\Float Toy.wmf"/>
          <p:cNvPicPr/>
          <p:nvPr/>
        </p:nvPicPr>
        <p:blipFill>
          <a:blip r:embed="rId6"/>
          <a:stretch/>
        </p:blipFill>
        <p:spPr>
          <a:xfrm>
            <a:off x="57150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Beach Images\Beach &amp; Water (K - P)\Life Preserver 04.wmf"/>
          <p:cNvPicPr/>
          <p:nvPr/>
        </p:nvPicPr>
        <p:blipFill>
          <a:blip r:embed="rId7"/>
          <a:stretch/>
        </p:blipFill>
        <p:spPr>
          <a:xfrm>
            <a:off x="152388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E:\Beach Images\Beach &amp; Water (K - P)\Life Preserver 04.wmf"/>
          <p:cNvPicPr/>
          <p:nvPr/>
        </p:nvPicPr>
        <p:blipFill>
          <a:blip r:embed="rId8"/>
          <a:stretch/>
        </p:blipFill>
        <p:spPr>
          <a:xfrm>
            <a:off x="2362320" y="2971800"/>
            <a:ext cx="1218960" cy="750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E:\Beach Images\Beach &amp; Water (K - P)\Life Preserver 04.wmf"/>
          <p:cNvPicPr/>
          <p:nvPr/>
        </p:nvPicPr>
        <p:blipFill>
          <a:blip r:embed="rId9"/>
          <a:stretch/>
        </p:blipFill>
        <p:spPr>
          <a:xfrm>
            <a:off x="2743200" y="22096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E:\Beach Images\Beach &amp; Water (K - P)\Life Preserver 04.wmf"/>
          <p:cNvPicPr/>
          <p:nvPr/>
        </p:nvPicPr>
        <p:blipFill>
          <a:blip r:embed="rId10"/>
          <a:stretch/>
        </p:blipFill>
        <p:spPr>
          <a:xfrm>
            <a:off x="228600" y="160020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E:\Beach Images\Beach &amp; Water (K - P)\Life Preserver 04.wmf"/>
          <p:cNvPicPr/>
          <p:nvPr/>
        </p:nvPicPr>
        <p:blipFill>
          <a:blip r:embed="rId11"/>
          <a:stretch/>
        </p:blipFill>
        <p:spPr>
          <a:xfrm>
            <a:off x="525780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Beach Images\Beach &amp; Water (K - P)\Life Preserver 04.wmf"/>
          <p:cNvPicPr/>
          <p:nvPr/>
        </p:nvPicPr>
        <p:blipFill>
          <a:blip r:embed="rId12"/>
          <a:stretch/>
        </p:blipFill>
        <p:spPr>
          <a:xfrm>
            <a:off x="7315200" y="1676520"/>
            <a:ext cx="1219320" cy="7506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3"/>
          <p:cNvSpPr/>
          <p:nvPr/>
        </p:nvSpPr>
        <p:spPr>
          <a:xfrm>
            <a:off x="19810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64771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838080" y="4191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group has more duck life preservers?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E:\Beach Images\Landscapes (A - Ci)\Beach Scene 09.wmf"/>
          <p:cNvPicPr/>
          <p:nvPr/>
        </p:nvPicPr>
        <p:blipFill>
          <a:blip r:embed="rId1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E:\Beach Images\Beach &amp; Water (C - G)\Float Toy.wmf"/>
          <p:cNvPicPr/>
          <p:nvPr/>
        </p:nvPicPr>
        <p:blipFill>
          <a:blip r:embed="rId14"/>
          <a:stretch/>
        </p:blipFill>
        <p:spPr>
          <a:xfrm>
            <a:off x="7772400" y="2362320"/>
            <a:ext cx="13716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ve or Multiplic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C4E3-6303-4336-9DF7-FD959BF014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Palm Tre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BE5B-B6EB-46FF-AB3C-392EEAD8D3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E:\Beach Images\Landscapes (A - Ci)\Beach Scene 20.wmf"/>
          <p:cNvPicPr/>
          <p:nvPr/>
        </p:nvPicPr>
        <p:blipFill>
          <a:blip r:embed="rId1"/>
          <a:stretch/>
        </p:blipFill>
        <p:spPr>
          <a:xfrm>
            <a:off x="990720" y="1600200"/>
            <a:ext cx="2057400" cy="2773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3657600" y="32004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, they were measured again.  Now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: 5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: 9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3581280" y="137160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alm trees were measured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: 3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: 6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2057400" y="47242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alm tree grew more?  How do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ve or Multiplicati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CC7A-8408-4FB2-B59F-5EED362DA6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…Questi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Math Cards’ -  to support effective questioning in the mathematics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F7BA-81C6-4CC9-ADA5-E09A0349C9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sp>
        <p:nvSpPr>
          <p:cNvPr id="98" name="Cloud Callout 5"/>
          <p:cNvSpPr/>
          <p:nvPr/>
        </p:nvSpPr>
        <p:spPr>
          <a:xfrm>
            <a:off x="4952880" y="3048120"/>
            <a:ext cx="2362320" cy="1371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…2…1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more than 20 markers. When you give them out in groups of 3, there is exactly one marker leftover. How many markers could there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D4B7-5DB5-4D3C-AC5C-B69D311D75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17T15:28:35Z</dcterms:modified>
  <cp:revision>61</cp:revision>
  <dc:subject/>
  <dc:title>&lt;Title&gt;</dc:title>
</cp:coreProperties>
</file>